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B92-AC11-4591-9C96-49317E0A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00A-EB10-4E2C-9000-2C555629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9EE-9FE9-4E63-9FB8-251C40FC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9DE-E3B3-4B4D-9365-0F635499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9EEF-C502-44F4-A2BD-24F5C2F2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2F9C-5E1A-4041-81F9-CEC0C5D6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9863-85B7-4044-A3E2-8FC237AE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17A8-42BF-48D6-96C3-BB2E939A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FEAF-CDD5-4C68-94A5-A24B5E2D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FFEE-1114-417A-AAC5-18A5B891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DCF8-E468-44ED-A100-2551C5B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9B5-205B-4E99-BF53-7DCA404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82B3-5032-4619-98A4-DC8EF1EB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D421-13D9-4633-85C9-D73AEB0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3450-78F7-47EF-81CA-D80AC7AE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EC73-EBE5-4AEE-91B8-23B0B0A6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39A2-E82F-4C13-ADB4-8721083D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915-5ABB-4042-9D20-35850DF6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C07-FC34-4619-B414-F3358B46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0C4-3325-4C17-A2E5-0911523A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D91-9B29-4935-897E-0D1F2D75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1ED-272F-402A-8545-5D33BBA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06A-39D3-4BCA-9CBD-EA8C5A3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221-207E-4E78-AAE8-7DB52F15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E179-D3E4-4D1B-B1D7-F6BDD1DB13E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B3C1-EDA6-44C3-9B1D-76F9AFCAA39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LF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8/31/09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rth Rockland Administrator’s “Wiki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 of “Wiki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safe place to post content on the inter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83080" y="2514600"/>
            <a:ext cx="25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oup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d Ca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ip Cam” Vide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o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181480" y="26607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add cont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set perimet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perform better when they have an audi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33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630760" y="2057400"/>
            <a:ext cx="249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 is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bsite that allows the user (s) to post and share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670720" y="16002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ministrative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are information to help make us more produ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033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 of Inform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t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c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formation from Cent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05520" y="2824200"/>
            <a:ext cx="3352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ntralized 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Efficient than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Docu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’s 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105520" y="2486160"/>
            <a:ext cx="2971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ww.nrcsdadmin.wikispaces.co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505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oose page to ed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 curser to area to add 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gin typing descrip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81480" y="2198520"/>
            <a:ext cx="3962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on the picture ic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owse your computer for the docu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click to ad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105520" y="2498760"/>
            <a:ext cx="327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view screen cast on “Home Page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07120" y="2057400"/>
            <a:ext cx="298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36:51Z</dcterms:created>
  <dc:creator>North Rockland Schools</dc:creator>
  <dc:description/>
  <dc:language>en-US</dc:language>
  <cp:lastModifiedBy>North Rockland Schools</cp:lastModifiedBy>
  <dcterms:modified xsi:type="dcterms:W3CDTF">2009-08-31T11:53:42Z</dcterms:modified>
  <cp:revision>2</cp:revision>
  <dc:subject/>
  <dc:title>ALF 8/31/09 </dc:title>
</cp:coreProperties>
</file>